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28F2-ECB0-4AEA-9096-75808ED39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91C9-7708-4883-8269-717477582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5732-807B-40F2-BB62-A8B190BA5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6EF7-86DA-4832-8A23-8EA523614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3F847-650A-44E3-BEEF-9C5566128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391AA-43F3-4103-9BA4-BBAC46724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C31B5-D3AB-47C4-B7D8-F0A603DD3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7600E-F708-43A8-A4CC-0CA72C664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5BFD5-4613-4272-AA7D-62F37466E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884A7-AF84-4453-9CAA-8C713C3A2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0E8D3-E2D9-410F-ACA2-460317BB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ED45-3C59-4C84-A101-BF47C3177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E4211-CA80-4FD3-9F6F-842CE50D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BE2A7-B728-4A60-9D82-3983A686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51D73-DCC4-431A-A350-C2DE68F01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BE2EC-ABB3-4DD6-8C86-02D9E41AD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1C897-89FE-4761-AD2F-855BB442E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C027-E481-4624-92A2-42F3C5DB2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7677-9D39-4E5B-940F-9E230623E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8E7A-4EF0-4D7F-845C-20E70EE34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73E3-FBBE-4CDE-B608-77C54236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86D3-CA05-461E-83E7-8E4F29BD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F2B5-0059-43B5-B6B8-71861C66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490E-7A17-4A79-893E-700E09C0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258920" y="6248520"/>
            <a:ext cx="33098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Bologna, 3 luglio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92DAA-0196-4775-ADF7-0CAA5F61894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7920" y="6248520"/>
            <a:ext cx="4078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ologna, 3 luglio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1182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B40F4-D4C4-4C0E-884E-DEE02F78E75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Laboratori territoriali per raccordo domanda offerta di formazione e lavoro – Fondo di perequazione 2006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B2E1B-4A61-490D-ACF7-C10A265FB95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zione c) Sviluppo dei percorsi di alternanza scuola-lavor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copo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onsolidare il ruolo delle C.C.I.A.A. nella promozione della modalità didattica dell’alternanza scuola-lavor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9F37-5B8D-41FB-B77E-C5E3C4A602C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zione c) Sviluppo dei percorsi di alternanza scuola-lavor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18 progetti di alternanza scuola-lavoro (2 per provincia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3 corsi di “formazione Formatori” Tutor Alternanza S-L di 5 moduli ciascun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4 giornate formative per gli operatori camerali – argomenti da approfondire: Poli Tecnici, Alternanza scuola-lavoro, Orientamento professionale e scolastico, Osservatorio Imprese, Sportello Polaris, Laboratori Territoriali, Sistema informativo Excelsior; implementazione del piano operativo – fondo di perequazione 2006 a sostegno delle azioni previst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EF3D-2F82-4FDC-B5C2-5A750E32A1D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iettivi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OBIETTIVO GENERAL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Le Camere di commercio dell’Emilia-Romagna, sulla base del ruolo acquisito attraverso lo sviluppo del Sistema informativo </a:t>
            </a: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Excelsior 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e l’attivazione dei percorsi di </a:t>
            </a: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alternanza scuola-lavoro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, mirano a svolgere sul territorio provinciale una funzione rilevante per favorire e fluidificare le dinamiche d’incontro tra domanda e offerta di formazione e lavoro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OBIETTIVI DEL PROGETT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a) attivazione di Laboratori territoriali permanenti (o Comitati territoriali) per l’incontro domanda-offerta di formazione e lavoro, formazione continua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b) supporto all’orientamento formativo e professionale per favorire le scelte degli studenti e delle persone in cerca d’occupazione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c) Sviluppo dei percorsi di alternanza scuola-lavor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2BA5-8AFE-4DAC-85C1-A050EAEC64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12160" y="812160"/>
            <a:ext cx="7823880" cy="6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2400"/>
            </a:b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Azione a) Laboratori territoriali permanenti per l’incontro domanda-offerta di formazione e lavoro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copo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far emergere i fabbisogni di professionalità e le competenze necessarie per lo sviluppo della competitività delle imprese; migliorare la capacità di risposta dei vari sistemi formativi (scuola, università, formazione professionale e formazione continua) ai fabbisogni espressi dalle impre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7C27-3A8B-4313-AD5F-97EAC3C888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Azione a) Laboratori territoriali permanenti per l’incontro domanda-offerta di formazione e lavoro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Attività previst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Analisi e documentazione territoriale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(analisi sui fabbisogni di profili professionali delle aziende nei settori produttivi– DATI EXCELSIOR - individuati con le  C.C.I.A.A., con  identificazione e selezione dei profili-chiave; descrizione dei profili-chiave in termini di attività; identificazione e descrizione delle competenze chiave necessarie per svolgere le stesse attività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Focus group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, con 2 moderatori e 5/6 rappresentanti degli universi professionali aziendali maggiormente rappresentativi del territorio per f.g., per valutare le analisi di cui al punto 1 e fare proposte per focalizzare i loro fabbisogn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Interviste in profondità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: rivolte a specialisti della formazione nei settori di indagine a livello territoria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9FB5-EB69-4FC2-8199-8FFC445D6E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Azione a) Laboratori territoriali permanenti per l’incontro domanda-offerta di formazione e lavoro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66"/>
                </a:solidFill>
                <a:latin typeface="Arial"/>
              </a:rPr>
              <a:t>RISULTATI  ATTESI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-   Schematizzazione dati Excelsior per il sostegno alla programmazione formativa e aziendale presso istituzioni e imprese;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-  sistematizzazione delle indicazioni emerse nei focus group e confronto con i dati di analisi della fase 1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-  articolazione e proposta al tavolo delle partnership provinciali di un menù formativo per unità didattiche da sviluppare nelle aziende o nei settori coinvolti nei Laboratori Formativi;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9 Report di ricerca, 1 per ogni Laboratorio provincial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1 Report integrativo e sintetico sull’insieme dei Laboratori Territoriali condotti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87BE-EE66-4A3A-902C-FC97442F17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Azione b) supporto all’orientamento formativo e professionale per favorire le scelte degli studenti e delle persone in cerca d’occupazione;</a:t>
            </a:r>
            <a:br>
              <a:rPr sz="2400"/>
            </a:b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copo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favorire la maturazione di scelte personali e professionali soddisfacenti per la persona e realizzabili nei contesti socio-economici di riferimento, con particolare attenzione alle tecniche di ricerca attiva dell’inserimento lavorativo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C7C3-2E35-44C0-8E59-FC9D042553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Azione b) supporto all’orientamento formativo e professionale per favorire le scelte degli studenti e delle persone in cerca d’occupazione;</a:t>
            </a:r>
            <a:br>
              <a:rPr sz="2400"/>
            </a:b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ttività previst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5 incontri orientativi misti di primo livello per ciascuna Camera di commercio rivolti a un’utenza interessata ad incontrare il mondo delle aziende locali e conoscere le tipologie di competenze professionali maggiormente richieste dalle imprese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mozione a livello locale sfruttando tutti i canali di comunicazione a disposizione del sistema camerale (sito web, newsletter, circolari informative, pubblicità sui giornali locali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8E9B-48A7-4310-ADE6-5796E079802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Azione b) supporto all’orientamento formativo e professionale per favorire le scelte degli studenti e delle persone in cerca d’occupazione</a:t>
            </a:r>
            <a:br>
              <a:rPr sz="2400"/>
            </a:b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ipologia di incontro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Accoglienz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Sessioni Informative su presentazione della rete Camerale  e dei servizi che offre, analisi del mercato del lavoro e delle professioni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scrizione della struttura e degli obiettivi dei percorsi finanziati di “Formazione Alta e Superiore” e di “Istruzione e Formazione Tecnico Superiore” (IFTS), illustrando nello specifico gli eventuali corsi che al momento sono stati approvati e ai quali è possibile iscriversi; le proposte di Alta Formazione post-laurea: i Mast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ecniche di ricerca attiva di lavor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irocinio Formativo o Orient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rvizi camerali a sostegno dell’inserimento lavor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olloqui individuali conoscitivi e di orientamento personalizzato su richiesta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79FA-BC7D-4873-B98B-5F40E37545E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Azione b) supporto all’orientamento formativo e professionale per favorire le scelte degli studenti e delle persone in cerca d’occupazione</a:t>
            </a:r>
            <a:br>
              <a:rPr sz="2400"/>
            </a:b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3366"/>
                </a:solidFill>
                <a:latin typeface="Arial"/>
              </a:rPr>
              <a:t>Esperienze pregresse di seminari di primo orientamento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presentazione dell’attuale situazione del mercato del lavoro (ci focalizzeremo in particolare sulla regione Emilia Romagna) degli strumenti e delle modalità per entrare nel mondo del lavoro,  dei profili professionali maggiormente richiest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cenni sulle tecniche di ricerca attiva del lavoro (come compilare un curriculum, come affrontare un colloquio di selezione, come rispondere ad un annuncio ecc) - approfondimenti offerti anche dal sistema camerale (Ad es.al Job Club, un servizio individualizzato che supporta l’utente in un breve percorso di orientamento finalizzato alla ricerca attiva del lavoro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tirocinio come esperienza professionalizzante: differenza tra stage e tirocinio formativo, potenzialità dello strumento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presentazione delle offerte della settimana (profili professionali richiesti dalle aziende per il tirocinio, eventuale focus su corsi in partenza, ecc.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colloquio conoscitivo / orientativo (al termine dell’incontro informativo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5839-2E05-4074-8193-1B83052A8E7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1T10:13:59Z</dcterms:created>
  <dc:creator>lenzi</dc:creator>
  <dc:description/>
  <dc:language>en-US</dc:language>
  <cp:lastModifiedBy>lenzi</cp:lastModifiedBy>
  <dcterms:modified xsi:type="dcterms:W3CDTF">2009-07-02T15:43:08Z</dcterms:modified>
  <cp:revision>6</cp:revision>
  <dc:subject/>
  <dc:title>Laboratori territoriali per raccordo domanda offerta di formazione e lavoro – Fondo di perequazione 2006</dc:title>
</cp:coreProperties>
</file>